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3A4-1EEC-46E7-AE66-044F0BB3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6833-6E67-4338-929A-28DDAAC1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38B-B97B-415B-8532-EAA79C14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F45-1F0C-433D-8981-85EB644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39B-06DF-42EC-9904-2A985E55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C47-5BA7-4657-A95E-D5F9962D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C88-01C8-4A3F-A400-3B7B9DE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B1B-73B7-4C22-93BF-E5F88022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D02-2C19-4EAA-A2C7-1DB20A02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3E0-C045-45DC-9BA5-623A67CC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F85-AB09-40C0-9421-1E26371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F09-E8A0-40B0-83A4-FA327DC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0F7-0DDA-465B-96C5-EC0987E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A7C-735B-414F-BAA9-6B754F0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98ED-C44E-4353-A231-A8EE900C4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609480" y="632448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581280"/>
            <a:ext cx="41148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0481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438280"/>
            <a:ext cx="3886200" cy="3049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114800"/>
            <a:ext cx="51051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137556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6" descr="Emily.jpg"/>
          <p:cNvPicPr/>
          <p:nvPr/>
        </p:nvPicPr>
        <p:blipFill>
          <a:blip r:embed="rId3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5"/>
          <p:cNvSpPr/>
          <p:nvPr/>
        </p:nvSpPr>
        <p:spPr>
          <a:xfrm>
            <a:off x="2160" y="6324480"/>
            <a:ext cx="47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7" descr="Angera.jpg"/>
          <p:cNvPicPr/>
          <p:nvPr/>
        </p:nvPicPr>
        <p:blipFill>
          <a:blip r:embed="rId4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Angera.jpg"/>
          <p:cNvPicPr/>
          <p:nvPr/>
        </p:nvPicPr>
        <p:blipFill>
          <a:blip r:embed="rId5"/>
          <a:stretch/>
        </p:blipFill>
        <p:spPr>
          <a:xfrm>
            <a:off x="2133720" y="2438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0" descr="New Canvas.jpg"/>
          <p:cNvPicPr/>
          <p:nvPr/>
        </p:nvPicPr>
        <p:blipFill>
          <a:blip r:embed="rId6"/>
          <a:stretch/>
        </p:blipFill>
        <p:spPr>
          <a:xfrm>
            <a:off x="304920" y="762120"/>
            <a:ext cx="1160280" cy="13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1" descr="New Canvas.jpg"/>
          <p:cNvPicPr/>
          <p:nvPr/>
        </p:nvPicPr>
        <p:blipFill>
          <a:blip r:embed="rId7"/>
          <a:stretch/>
        </p:blipFill>
        <p:spPr>
          <a:xfrm>
            <a:off x="2209680" y="3048120"/>
            <a:ext cx="384120" cy="46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3" descr="Angera.jpg"/>
          <p:cNvPicPr/>
          <p:nvPr/>
        </p:nvPicPr>
        <p:blipFill>
          <a:blip r:embed="rId8"/>
          <a:stretch/>
        </p:blipFill>
        <p:spPr>
          <a:xfrm>
            <a:off x="2286000" y="358128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550200" y="3048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6" descr="Emily.jpg"/>
          <p:cNvPicPr/>
          <p:nvPr/>
        </p:nvPicPr>
        <p:blipFill>
          <a:blip r:embed="rId9"/>
          <a:stretch/>
        </p:blipFill>
        <p:spPr>
          <a:xfrm>
            <a:off x="2286000" y="4114800"/>
            <a:ext cx="5335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6:22Z</dcterms:modified>
  <cp:revision>114</cp:revision>
  <dc:subject/>
  <dc:title>Profile</dc:title>
</cp:coreProperties>
</file>